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4FC-888D-4832-9297-10D79406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A80-90FB-4541-B19E-38F067A0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A8B-1F76-4BE7-94D7-DAC0C6DF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8BB-9B8D-434F-B1D3-79F4963A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0F0B-0D62-4CD7-A5D4-2C678415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07BD-4F29-42BB-8B79-6307E86E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E4BF-ECEE-46C9-BD59-530EF5C5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722-22DA-4737-9BF7-13078EB9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859-EC38-44FC-8217-6104BAAA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1089-3586-47CB-B0D1-CDEB242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457D-3247-401B-8569-D486AAF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5C9-D826-49F8-BCCB-1CC5A554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056B-BC4D-4DB2-AA54-B4C60D99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78AA-6DA4-4365-A96E-D8F2DA8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063B-1B04-467E-96B4-C631411E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384B-E351-48F9-8D8E-8C8F2538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8982-51D1-484A-BB12-C4428A92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F57-D366-4F3C-8610-083E68C8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D2C-0F4D-4634-8677-3853213A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A73-F871-482E-B25E-EDD17B8A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EF7-C6AE-4E83-A962-1C82B1B1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DC1-F90A-4A96-A24C-0218B4E3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122-039F-456A-9C54-434E1B14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981-F412-4350-950C-CF4F91D8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BB3-F357-4604-9C1E-4CE96B6F0CE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384B-0F27-4177-A52F-3A5706B0B6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cts About the AP Biology Exam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Raw score for section I)=(Number answered correctly)-(Number wrong÷4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vert raw score to composite sco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Composite score of section I=0.75x(Raw score for Section I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Raw score for section II)=(Points for essay 1)+(Points for essay 2)+(Points for essay 3)+(Points for essay 4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Composite score for section II)=1.5 x(Raw score for section I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TS Grading Syste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666880"/>
          <a:ext cx="8839080" cy="367056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site sc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P Gr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-1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xtremely well qualifi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-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ell Qualifi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-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ualifi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-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ssibly Qualifi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-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 recommend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7467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1: Pace Yourself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ke your time--do not need to answer every question--mistakes accounted for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for questions you know skip the ones you don’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3505320"/>
          <a:ext cx="7238880" cy="249228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 get sc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ction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ction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to 3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 to 4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ess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2: Three-Pass Syste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fect score- do not have to answer every ques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kip most difficult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asiest questions fir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um questions second pa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d question last pa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TCH THE BUBBLES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3: Process of Elimination (POE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tructure that act as the sites of gas exchange in a woody stem are th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u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il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ntice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ngl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ntil bea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4: Aggressive Guess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 wrong answers = Loss of 1 poi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iminate 2 answer choices--gues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5: Word Associ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now your science vocabular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lp you to narrow down choi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6: Mnemonic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ng Phillip of German came over for great spagett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ngdom, phylum, class, order, family, genus, spec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7: EXCEPT ques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0 percent -Except/Not/Leas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ong--Least correc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oss of the ones that apply to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y 8: ETS Essa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TS readers looking for hot button terms= poi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each question 2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0 minute period- brainstorm write down key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tline essay using key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sks for 2 examples--give just 2 examp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diagrams but must label correctl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ucture of Tes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 Hours lo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vided into two se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tion I --100 multiple choice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tion II--4 Essay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gnal Word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detailed verbal picture”just the facts”--not opin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nversation among ide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take something complicated and make it more clear--simpler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nswer that is focused on similarities between 2 th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a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nswer emphasizing dif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00 multiple choice ques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5 seconds per ques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0 minutes to answer 100 ques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 par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ular multiple choice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ching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stions dealing with experiments or da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 Essay ques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0 minute reading perio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90 minutes to answer all 4 ess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2 minutes per ess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---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8 multiple choice ques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If a segment of DNA reads 5’-ATG-CCA-GCT-3’, the mRNA strand that results  will b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A) 3’-TAC-GGT-CGA-5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B) 3’-UAC-AGT-CAA-5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C) 3’-TAA-GCU-CGA-5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D) 3’-UAC-GCU-CGA-5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--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riments or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diagram and multiple choice questions about diagra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on sense/ logical deduction more useful than strict scien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ction II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 free response ess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vided into parts--vary in difficul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a 1: Molecules and cel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a 2: Heredity and Evolu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a 3: Organisms and popul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mple Free Respons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zymes are biological catalys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Relate the chemical structure of an enzyme to its catalytic activity and specific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Design an experiment that investigates the influence of temperature, substrate concentration, or pH on the activity of an enzy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Describe what information concerning enzyme structure could be inferred from the experiment you have desig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or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ximum points Section I-100 p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% of 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ximum points Section II- 40 p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s per essay ques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% of 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w scores translated into composite scores---then to AP number grade 1-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50:16Z</dcterms:created>
  <dc:creator>Lauren  Hansell</dc:creator>
  <dc:description/>
  <dc:language>en-US</dc:language>
  <cp:lastModifiedBy>moranc</cp:lastModifiedBy>
  <dcterms:modified xsi:type="dcterms:W3CDTF">2010-05-07T11:02:41Z</dcterms:modified>
  <cp:revision>2</cp:revision>
  <dc:subject/>
  <dc:title>Facts About the AP Biology Exam</dc:title>
</cp:coreProperties>
</file>